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37C87-4685-4BD3-9B87-0344005453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13500-C995-4793-9B73-E73ECD080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alivary Gland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ree pairs secrete into oral cavity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ach pair has distinctive cellular organiza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And produces saliva with different propertie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alivary Gland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oduce 1.0–1.5 liters of saliva each da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li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99.4% wat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0.6% includ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lectrolytes (N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and H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600" spc="-1" strike="noStrike" baseline="4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ff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lycoproteins (mucin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tibod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zym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aste produc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uscles of Mastication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ose the jaw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lide or rock lower jaw from side to side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hewing involves mandibula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levation and depress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rotraction and retractio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Medial and lateral moveme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2E6671-B462-4439-8884-323F897D4F4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allo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alled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glu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initiated voluntar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ceeds automatic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into three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uccal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haryngeal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sophageal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0AD4F6-7842-403A-9351-F3AD79F34C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gions of the Stomach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Cardi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Fundu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Body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Pylorus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tantly being replaced, covered thick mucus, same simple columnar epithel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yloric Sphincter – regulates gastric empty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astric Glan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 fundus and body of stomac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xtend deep into underlying lamina prop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gastric pit communicates with several gastric glan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arietal cell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hief cel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ietal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rete intrinsic factor and hydrochloric acid (HCl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ief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ecrete hydrochloric acid (HCl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re most abundant near base of gastric glan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rete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epsinoge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(inactive proenzym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epsinog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s converted by HCl in the gastric lum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pepsin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(active proteolytic enzyme)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5EACE6-092F-49C7-84D2-078EEA049D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8750DA-BCE8-4CE5-B933-3277149E58E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ush Border Enzym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ral membrane prote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surfaces of intestinal microvill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down materials in contact with brush bord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stinal Gl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opeptid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brush border enzy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ates pancreatic proenzyme trypsinog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eroendocrine ce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e intestinal hormones such as gastrin, cholecystokinin, and secret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uodenal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called submucosal glands or Brunner gla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copious quantities of mu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chyme arrives from stom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025BB-BE56-4A2B-B309-EA57CA9ABBC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bolic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quire two essential ingredi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c molecules broken down by intracellular enzym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0"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, carbohydrates, fats, and prote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F4B3C5-8792-47DD-BD91-C6E14AABAC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creatic Aci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ind poc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lined with simple cuboidal epitheliu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scattered pancreatic isl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creatic Isl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crine tissues of panc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ttered (1% of pancreatic cel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E5D47-0DFF-4844-BFEF-62E077B81D9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largest visceral organ (1.5 kg; 3.3 l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es in right hypochondriac and epigastric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ds to left hypochondriac and umbilical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orms essential metabolic and synthet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Li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wrapped in tough fibrous caps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vered by visceral peritone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divided into lo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DC535-76A5-42CE-92AA-EF4AF1808A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abolic Activities of the Li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bohydrate metabo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pid metabo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o acid metabo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te product remo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tamin sto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eral sto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ug inact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449C81-3C19-49D6-9F4C-A33B7174F4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s damaged / old red blood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sma proteins: albumin – contrbutes to osmotic concent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bsorped Epinephrine, norepinephrine, insulin, thyroid &amp; steroid horm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s antibodies and converts to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ps some lipid-soluble toxins (DDT) or breaks down and removes from 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10D45-44EF-4E7F-AC7D-93C67F2CFB3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le Duc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secretes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i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o a network of narrow channels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ile canalicul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opposing membranes of adjacent liver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gh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Left Hepatic Du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llect bile from all bile ducts of liver lob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te to form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mon hepatic duc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at leaves the li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e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rom common hepatic duct to ei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ommon bile duct, which empties into duodenal ampul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ystic du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which leads to gallblad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mon Bile Duc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formed by unio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1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stic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1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hepatic 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es within the lesser omentum toward stom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etrates wall of duode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ets pancreatic duct at duodenal ampul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383BCA-23B9-44AF-BFFF-5A83B743EA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ology of the Gallblad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ll gallbladder contains 40–70 mL b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composition gradually changes in gallblad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salts and solutes become concent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07BF2-D120-4FF0-8B69-835FEB2112A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cretin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released when chyme arrives in duode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creases secretion of bile and buffers by liver and pancre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holecystokinin (CCK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secreted in duode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When chyme contains lipids and partially digested protein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ccelerates pancreatic production and secretion of digestive enzy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laxes hepatopancreatic sphincter and gallbladd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jecting bile and pancreatic juice into duodenum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tric Inhibitory Peptide (GI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secreted when fats and carbohydrates enter small intest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oactive Intestinal Peptide (V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imulates secretion of intestinal gland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ilates regional capillari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hibits acid production in stomac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tr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secreted by G cells in duode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hen exposed to incompletely digested protei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motes increased stomach motilit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imulates acids and enzyme produ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ocrin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released when chyme enters small intest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imulates mucin production by submucosal glands of duode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A8D41-A0F6-4BDE-9AAE-536F4ED26B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cretin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released when chyme arrives in duode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creases secretion of bile and buffers by liver and pancrea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holecystokinin (CCK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secreted in duode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When chyme contains lipids and partially digested protein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ccelerates pancreatic production and secretion of digestive enzy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laxes hepatopancreatic sphincter and gallbladd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jecting bile and pancreatic juice into duodenum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tric Inhibitory Peptide (GI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secreted when fats and carbohydrates enter small intest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soactive Intestinal Peptide (VI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imulates secretion of intestinal gland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ilates regional capillari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hibits acid production in stomac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tr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secreted by G cells in duode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hen exposed to incompletely digested protein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romotes increased stomach motilit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imulates acids and enzyme produc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ocrin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released when chyme enters small intest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imulates mucin production by submucosal glands of duoden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4D018-A570-4554-A70E-E21EE3B2E9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 of the Large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bsorption of wa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action  of intestinal contents into fe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rption of important vitamins produced by bacter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rage of fecal material prior to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defe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BFEFF3-52E8-444F-9AFD-65C5801B86F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9647C-C347-446C-B4A7-D3722119994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ology of the Large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 than 10% of nutrient absorption occurs in large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ares fecal material for ejection from the bod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F0A0B-EAC6-4B98-8730-CCB4CACB92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rganic molecu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t as cofactors or coenzymes in metabo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bacteria in colon make three vitamins that supplement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B9125-36ED-46DF-B71F-31F0E149C7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rganic molecu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t as cofactors or coenzymes in metabo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bacteria in colon make three vitamins that supplement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5839B-E8B8-4910-8177-89B201D900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cessing and Absorption of Nutr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ks down physical structure of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assembles component molecu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lecules released into bloodstream a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sorbed by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ken down to provide energy for ATP 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 used to synthesize carbohydrates, proteins, and lip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09894-B8AF-46FD-9F27-8B39095D75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secre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n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Digestive Enzym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ush border enzymes break nucleotides in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ous b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E4B5C4-53A6-492F-8A0F-0E29C6A60EE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toneal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produced by serous membrane l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essential lubr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tes parietal and visceral surf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ows sliding without friction or irr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7D7D8-B62A-4A4A-8A48-4AF100169C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Mucos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the inner lining of digestive trac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s a mucous membrane consisting o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pithelium, moistened by glandular secre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Lamina propria of areolar tissu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Digestive Epitheliu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cosal epithelium is simple or stratif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12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ing on location, function, and stresses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ral cavity, pharynx, and esophagu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lnSpc>
                <a:spcPct val="120000"/>
              </a:lnSpc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cal stres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lnSpc>
                <a:spcPct val="120000"/>
              </a:lnSpc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lined by stratified squamous epitheli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mach, small intestine, and most of large intestine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lnSpc>
                <a:spcPct val="120000"/>
              </a:lnSpc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lnSpc>
                <a:spcPct val="120000"/>
              </a:lnSpc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mple columnar epithelium with mucous (goblet) cel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 Digestive Epitheli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Enteroendocrine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cell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re scattered among columnar cells of digestive epitheliu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ecrete hormones that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ordinate activities of the digestive tract and accessory gland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7042EA-812C-48DF-A51D-78C67CDFE2F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staltic Mo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rcular muscles contract behind bolu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ile circular muscles ahead of bolus rela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itudinal muscles ahead of bolus contrac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ening adjacent seg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ve of contraction in circular musc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ces bolus forw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D0F1C-54A0-4D5A-9F50-53211D1FC2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48C-E703-48F3-8D6F-D9B6DD4A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30D-486D-4970-B6AB-437B82D4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D79-7886-4BBF-A88B-3E0E5F20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3193-D237-49A7-B5FD-D1BCCC35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244-A045-42E3-8CF1-511B20DC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146-BBB3-4986-B6A5-5C230281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19B8-81D8-4FCB-9A08-6F9577BE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C1C9-A2DF-4F97-8647-4106260C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111-F3B9-4548-BB2B-F414E262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0D2B-18B3-400C-B7D9-20B85BD5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DE06-34DD-4A19-A604-69E646D3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8EC5-09F0-45E4-A703-7D311CBE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4E59C-C256-45EA-B67E-A0E48AA64257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85B3C-EDE7-4D37-BDEB-BDE907B2ACE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estive Syste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uman Anatomy &amp; Physiolo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iversity of Washington PM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unctions of Oral Cav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nsory analysi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f material before swallow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chanical process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rough actions of teeth, tongue, and palatal surfac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ubric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xing with mucus and salivary gland secre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mited diges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f carbohydrates and lipi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4" descr="24_06Figureb-L"/>
          <p:cNvPicPr/>
          <p:nvPr/>
        </p:nvPicPr>
        <p:blipFill>
          <a:blip r:embed="rId1"/>
          <a:srcRect l="0" t="0" r="0" b="2678"/>
          <a:stretch/>
        </p:blipFill>
        <p:spPr>
          <a:xfrm>
            <a:off x="4803840" y="1600200"/>
            <a:ext cx="38829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sophagu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 hollow muscular tub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bout 25 cm (10 in.) long and 2 cm (0.80 in.) wi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veys solid food and liquids to the stoma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egins posterior to cricoid cartilage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innervated by fibers from the esophageal plex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4" descr="24_11Figure_3-L"/>
          <p:cNvPicPr/>
          <p:nvPr/>
        </p:nvPicPr>
        <p:blipFill>
          <a:blip r:embed="rId1"/>
          <a:srcRect l="0" t="0" r="0" b="3753"/>
          <a:stretch/>
        </p:blipFill>
        <p:spPr>
          <a:xfrm>
            <a:off x="4495680" y="1600200"/>
            <a:ext cx="45720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tomach Fun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jor Functions of the Stomac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orage of ingested 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chanical breakdown of ingested f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sruption of chemical bonds in food material by acid and enzym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duction of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ntrinsic facto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, a glycoprotein required for absorption of vitamin B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libri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in small intest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24_12Figureb_0-L"/>
          <p:cNvPicPr/>
          <p:nvPr/>
        </p:nvPicPr>
        <p:blipFill>
          <a:blip r:embed="rId1"/>
          <a:srcRect l="0" t="0" r="0" b="3548"/>
          <a:stretch/>
        </p:blipFill>
        <p:spPr>
          <a:xfrm>
            <a:off x="378000" y="1581120"/>
            <a:ext cx="8385120" cy="4492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astric Anatom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9240" y="274320"/>
            <a:ext cx="87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estion in the Stoma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omach performs preliminary digestion of proteins by peps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ome digestion of carbohydrates (by salivary amylas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ipids (by lingual lipas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omach conten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come more fluid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H approaches 2.0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epsin activity increas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tein disassembly begi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though digestion occurs in the stomach, nutrients are not absorbed the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mall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90% of absorption occurs in the small intest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4" descr="24_16Figure-L"/>
          <p:cNvPicPr/>
          <p:nvPr/>
        </p:nvPicPr>
        <p:blipFill>
          <a:blip r:embed="rId1"/>
          <a:srcRect l="0" t="0" r="0" b="3392"/>
          <a:stretch/>
        </p:blipFill>
        <p:spPr>
          <a:xfrm>
            <a:off x="378000" y="2217600"/>
            <a:ext cx="8385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mall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Duodenu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segment of small intestine closest to stomac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5 cm (10 in.) lo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xing bowl</a:t>
            </a:r>
            <a:r>
              <a:rPr b="0" lang="ja-JP" sz="2400" spc="-1" strike="noStrike">
                <a:solidFill>
                  <a:srgbClr val="ffffff"/>
                </a:solidFill>
                <a:latin typeface="Calibri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hat receives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hyme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from stomach and digestive secretions from pancreas and liv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nctions of the duodenum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receive chyme from stomac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 neutralize acids before they can damage the absorptive surfaces of the small intesti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mall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Jejunu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the middle segment of small intestin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.5 meters (8.2 ft) lo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the location of mo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hemical diges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Nutrient absorp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as few plicae circular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mall vill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mall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Ile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final segment of small intest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3.5 meters (11.48 ft) long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ds at the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leocecal valv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a sphincter that controls flow of material from the ileum into the large intest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mall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4" descr="24_17Figured-L"/>
          <p:cNvPicPr/>
          <p:nvPr/>
        </p:nvPicPr>
        <p:blipFill>
          <a:blip r:embed="rId1"/>
          <a:srcRect l="0" t="0" r="0" b="3957"/>
          <a:stretch/>
        </p:blipFill>
        <p:spPr>
          <a:xfrm>
            <a:off x="1163520" y="1339920"/>
            <a:ext cx="669132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estive System Fun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quires nutrients from environ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abo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ses raw materials to synthesize essential compoun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tabolis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composes substances to provide energy cells need to func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mall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stinal Secre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atery intestinal ju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.8 liters per day enter intestinal lume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isten chym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ssist in buffering aci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Keep digestive enzymes and products of digestion in solu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estinal Move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hyme arrives in duodenu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eak peristaltic contractions move it slowly toward jejunu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Myenteric reflexes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Not under CNS control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Parasympathetic stimulation accelerates local peristalsis and segmentation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ncre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880" y="1600200"/>
            <a:ext cx="413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Lies posterior to stomach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rom duodenum toward splee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s bound to posterior wall of abdominal cavity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s wrapped in thin, connective tissue capsul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Functions of the Pancrea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docrine cells of the pancreatic islets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Secrete insulin and glucagon into bloodstream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xocrine cells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Acinar cells and epithelial cells of duct system secrete </a:t>
            </a:r>
            <a:r>
              <a:rPr b="1" lang="en-US" sz="1700" spc="-1" strike="noStrike">
                <a:solidFill>
                  <a:srgbClr val="ffffff"/>
                </a:solidFill>
                <a:latin typeface="Calibri"/>
              </a:rPr>
              <a:t>pancreatic juice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Picture 4" descr="24_18Figurea-L"/>
          <p:cNvPicPr/>
          <p:nvPr/>
        </p:nvPicPr>
        <p:blipFill>
          <a:blip r:embed="rId1"/>
          <a:srcRect l="0" t="0" r="0" b="2849"/>
          <a:stretch/>
        </p:blipFill>
        <p:spPr>
          <a:xfrm>
            <a:off x="4275000" y="1600200"/>
            <a:ext cx="472464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ncre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46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ancreatic Enzymes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Pancreatic alpha-amylas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 carbohydr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reaks down starch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imilar to salivary amylase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Pancreatic lipase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reaks down complex lipid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Releases products (e.g., fatty acids) that are easily absorb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246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ancreatic Enzymes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Nucleas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reak down nucleic acids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5000"/>
              </a:lnSpc>
              <a:spcBef>
                <a:spcPts val="476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alibri"/>
              </a:rPr>
              <a:t>Proteolytic enzymes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reak certain proteins apart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teases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break large protein complex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eptidases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 break small peptides into amino acid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70% of all pancreatic enzyme produc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creted as inactive proenzyme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tivated after reaching small intestin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7" descr="17194.jpg"/>
          <p:cNvPicPr/>
          <p:nvPr/>
        </p:nvPicPr>
        <p:blipFill>
          <a:blip r:embed="rId1"/>
          <a:stretch/>
        </p:blipFill>
        <p:spPr>
          <a:xfrm>
            <a:off x="1212840" y="4110120"/>
            <a:ext cx="343548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4" descr="24_19Figureb-L"/>
          <p:cNvPicPr/>
          <p:nvPr/>
        </p:nvPicPr>
        <p:blipFill>
          <a:blip r:embed="rId1"/>
          <a:srcRect l="0" t="0" r="0" b="4333"/>
          <a:stretch/>
        </p:blipFill>
        <p:spPr>
          <a:xfrm>
            <a:off x="1295280" y="1658880"/>
            <a:ext cx="67248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Hepatocy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liver cel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just circulating levels of nutri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rough selective absorption and secretio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a liver lobule form a series of irregular plates arranged like wheel spok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ny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Kupffer cell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(stellate reticuloendothelial cells) are located in sinusoidal lin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s blood flows through sinusoid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patocytes absorb solutes from plasm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nd secrete materials such as plasma protei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ver Fun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hysiology of the Liv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regul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matological regul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le prod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Picture 3" descr="cirrhosis-liver.jpg"/>
          <p:cNvPicPr/>
          <p:nvPr/>
        </p:nvPicPr>
        <p:blipFill>
          <a:blip r:embed="rId1"/>
          <a:stretch/>
        </p:blipFill>
        <p:spPr>
          <a:xfrm>
            <a:off x="5372280" y="2990880"/>
            <a:ext cx="301752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ver Fun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abolic Regu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liver regulates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mposition of circulating bl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utrient metabolism (carbohydrate, lipid &amp; amino aci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Waste product remova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tamin Storage (A, D, E &amp; K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Nutrient storage (iron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rug inactiv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ver Fun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osition of Circulating Blood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l blood leaving absorptive surfaces of digestive tr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ters hepatic portal syste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lows into the live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ver cells extract nutrients or toxins from blo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efore they reach systemic circulation through hepatic vein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ver removes and stores excess nutri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rrects nutrient deficiencies by mobilizing stored reserves or performing synthetic activiti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ver Fun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matological Regu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rgest blood reservoir in the bod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ceives 25% of cardiac outpu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unctions of Hematological Regula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hagocytosis and antigen presen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ynthesis of plasma prote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oval of circulating hormon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oval of antibodi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moval or storage of toxi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ynthesis and secretion of bi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ver Func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Functions of Bi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ietary lipids are not water solu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chanical processing in stomach creates large drops containing lipid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ncreatic lipase is not lipid solu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teracts only at surface of lipid droplet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le salts break droplets apart (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emulsification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creases surface area exposed to enzymatic attack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reates tiny emulsion droplets coated with bile salt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estive (GI) Tra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4" descr="24_01Figure_1-L"/>
          <p:cNvPicPr/>
          <p:nvPr/>
        </p:nvPicPr>
        <p:blipFill>
          <a:blip r:embed="rId1"/>
          <a:srcRect l="0" t="0" r="0" b="2778"/>
          <a:stretch/>
        </p:blipFill>
        <p:spPr>
          <a:xfrm>
            <a:off x="203040" y="1600200"/>
            <a:ext cx="4175280" cy="444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8" descr="24_01Figure_2-L"/>
          <p:cNvPicPr/>
          <p:nvPr/>
        </p:nvPicPr>
        <p:blipFill>
          <a:blip r:embed="rId2"/>
          <a:srcRect l="0" t="0" r="0" b="2586"/>
          <a:stretch/>
        </p:blipFill>
        <p:spPr>
          <a:xfrm>
            <a:off x="4572000" y="1600200"/>
            <a:ext cx="411480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4" descr="24_21Figurea-L"/>
          <p:cNvPicPr/>
          <p:nvPr/>
        </p:nvPicPr>
        <p:blipFill>
          <a:blip r:embed="rId1"/>
          <a:srcRect l="0" t="0" r="0" b="2833"/>
          <a:stretch/>
        </p:blipFill>
        <p:spPr>
          <a:xfrm>
            <a:off x="1216080" y="1566720"/>
            <a:ext cx="67086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allbladd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a pear-shaped, muscular sa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ores and concentrates bile prior to excretion into small intest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located in the fossa on the posterior surface of the liver</a:t>
            </a:r>
            <a:r>
              <a:rPr b="0" lang="ja-JP" sz="32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 right lob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ystic Du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tends from gallblad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ion with common hepatic duct forms common bile duc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allbladd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unctions of the Gallbladd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ores bi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leases bile into duodenum, but only under stimulation of hormone cholecystokinin (CCK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C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epatopancreatic sphincter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remains close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ile exiting liver in common hepatic duct cannot flow through common bile duct into duodenum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ile enters cystic duct and is stored in gallbladd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ordination of Secretion &amp; Absorp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5" name="Picture 4" descr="24_22Figure-L"/>
          <p:cNvPicPr/>
          <p:nvPr/>
        </p:nvPicPr>
        <p:blipFill>
          <a:blip r:embed="rId1"/>
          <a:srcRect l="0" t="0" r="0" b="2302"/>
          <a:stretch/>
        </p:blipFill>
        <p:spPr>
          <a:xfrm>
            <a:off x="2457360" y="1117440"/>
            <a:ext cx="418968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ordination of Secretion &amp; Absorp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estinal Absorpt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t takes about 5 hours for material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pass from duodenum to end of ileum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vements of the mucosa increases absorptive effectivene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ir and mix intestinal cont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stantly change environment around epithelial cell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rge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s horseshoe shaped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xtends from end of ileum to anu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ies inferior to stomach and liv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rames the small intestin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lso called large bowel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s about 1.5 meters (4.9 ft) long and 7.5 cm (3 in.) wid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arge Intestine Fun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2920" y="1600200"/>
            <a:ext cx="413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bsorption of wat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action  of intestinal contents into fe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sorption of important vitamins produced by bacter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orage of fecal material prior to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efec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2" descr="cleanbowel.jpg"/>
          <p:cNvPicPr/>
          <p:nvPr/>
        </p:nvPicPr>
        <p:blipFill>
          <a:blip r:embed="rId1"/>
          <a:stretch/>
        </p:blipFill>
        <p:spPr>
          <a:xfrm>
            <a:off x="4543560" y="2387520"/>
            <a:ext cx="41432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ts of Large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32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Cecum</a:t>
            </a: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s an expanded pouch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ceives material arriving from the ileu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Stores materials and begins compac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Calibri"/>
              </a:rPr>
              <a:t>Appendix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lso called vermiform appendix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a slender, hollow appendage about 9 cm (3.6 in.) lo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s dominated by lymphoid nodules (a lymphoid orga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4" descr="24_23Figureb-L"/>
          <p:cNvPicPr/>
          <p:nvPr/>
        </p:nvPicPr>
        <p:blipFill>
          <a:blip r:embed="rId1"/>
          <a:srcRect l="0" t="0" r="0" b="4490"/>
          <a:stretch/>
        </p:blipFill>
        <p:spPr>
          <a:xfrm>
            <a:off x="4630680" y="2160720"/>
            <a:ext cx="421164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ts of Large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l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s a larger diameter and thinner wall than small intestine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all of the col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rms a series of pouches (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austra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ustra permit expansion and elongation of col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ts of Col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Ascending Colon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Begins at superior border of cecum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scends along right lateral and posterior wall of peritoneal cavity to inferior surface of the liver and bends at 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right colic flexure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(hepatic flexur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Transverse Col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rosses abdomen from right to left; turns at 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left colic flexure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 (splenic flexure)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s supported by transverse mesocol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Is separated from anterior abdominal wall by greater omentu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tions of Digestive (GI) Tra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Inges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Occurs when material enters via the mouth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Mechanical Processing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rushing / Shearing – makes material easier to move through the trac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Diges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hemical breakdown of food into small organic compounds for absorp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re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lease of water acids, buffers, enzymes &amp; salts by epithelium of GI tract and glandular organ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Absorp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Movement of organic substrates, electrolytes, vitamins &amp; water across digestive epithelium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Excre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Removal of waste products from body fluid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ts of Col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Descending Col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ceeds inferiorly along left side to the iliac fossa (inner surface of left ilium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retroperitoneal, firmly attached to abdominal wall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he Sigmoid Colon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an S-shaped segment, about 15 cm (6 in.) lo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tarts at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igmoid flex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ies posterior to urinary bladd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suspended from sigmoid mesocol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mpties into rectu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ts of Col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Picture 6" descr="19220.jpg"/>
          <p:cNvPicPr/>
          <p:nvPr/>
        </p:nvPicPr>
        <p:blipFill>
          <a:blip r:embed="rId1"/>
          <a:stretch/>
        </p:blipFill>
        <p:spPr>
          <a:xfrm>
            <a:off x="1566720" y="1397160"/>
            <a:ext cx="605340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ts of Large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600200"/>
            <a:ext cx="424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The Rectum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Forms last 15 cm (6 in.) of digestive tract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Is an expandable organ for temporary storage of feces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Movement of fecal material into rectum triggers urge to defecate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nal canal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is the last portion of the rectum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Contains small longitudinal folds called </a:t>
            </a: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anal columns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alibri"/>
              </a:rPr>
              <a:t>Anus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Also called anal orifice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Is exit of the anal canal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Has keratinized epidermis like skin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5" descr="24_23Figurec-L"/>
          <p:cNvPicPr/>
          <p:nvPr/>
        </p:nvPicPr>
        <p:blipFill>
          <a:blip r:embed="rId1"/>
          <a:srcRect l="0" t="0" r="0" b="3326"/>
          <a:stretch/>
        </p:blipFill>
        <p:spPr>
          <a:xfrm>
            <a:off x="4699080" y="1903320"/>
            <a:ext cx="4327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ysiology of the Large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sorption in the Large Intest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bsorption of wat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absorption of bile sal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 the cecum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nsported in blood to liv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sorption of vitamins produced by bacter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sorption of organic wast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ysiology of the Large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ree Vitamins Produced in the Large Intestin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itamin K (fat soluble)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quired by liver for synthesizing four clotting factors, including prothrombin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 startAt="2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iotin (water soluble)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mportant in glucose metabolis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990720" indent="-53352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Calibri"/>
              <a:buAutoNum type="arabicPeriod" startAt="3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ntothenic acid: B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Calibri"/>
              </a:rPr>
              <a:t>5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(water soluble)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quired in manufacture of steroid hormones and some neurotransmitte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hysiology of the Large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Organic Wastes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acteria convert bilirubin to urobilinogens and stercobilinoge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25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acteria break down peptides in feces and generat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25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Ammonia, Indole &amp; skatole, hydrogen sulfid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Bacteria feed on indigestible carbohydrates (complex polysaccharides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Produce 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flatus</a:t>
            </a: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, or intestinal gas, in large intestin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vements of the Large Intest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astroileal &amp; gastroenteric reflex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ove materials into cecum while you eat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Movement from cecum to transverse colon is very slow, allowing hours for water absorption 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Peristaltic waves move material along length of colon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5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Segmentation movements (</a:t>
            </a: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haustral churning</a:t>
            </a:r>
            <a:r>
              <a:rPr b="0" lang="en-US" sz="1500" spc="-1" strike="noStrike">
                <a:solidFill>
                  <a:srgbClr val="ffffff"/>
                </a:solidFill>
                <a:latin typeface="Calibri"/>
              </a:rPr>
              <a:t>) mix contents of adjacent haustra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vements from transverse colon through rest of large intestine results from powerful peristaltic contractions (mass movement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imulus is distension of stomach and duodenum; relayed over intestinal nerve plexus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istension of the rectal wall triggers defecation reflex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wo positive feedback loop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oth loops triggered by stretch receptors in rectum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es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gestive system handles each nutrient different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rge organic molecul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st be digested before absorption can occu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ter, electrolytes, and vitami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n be absorbed without process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y require special transpor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es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gestive Enzym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reak molecular bonds in large organic molecu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arbohydrates, proteins, lipids, and nucleic aci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 a process called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hydrolysi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divided into classes by targe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arbohydrases break bonds between simple sugar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roteases break bonds between amino acid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ipases separate fatty acids from glyceride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es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ater Absorp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ls cannot actively absorb or secrete wat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ll movement of water across lining of digestive tra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volves passive water flow down osmotic gradient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4" descr="24_27Figure_0-L"/>
          <p:cNvPicPr/>
          <p:nvPr/>
        </p:nvPicPr>
        <p:blipFill>
          <a:blip r:embed="rId1"/>
          <a:srcRect l="0" t="0" r="0" b="2220"/>
          <a:stretch/>
        </p:blipFill>
        <p:spPr>
          <a:xfrm>
            <a:off x="6029280" y="1600200"/>
            <a:ext cx="26575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gestive (GI) Trac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igestive Organs and the Peritone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ed with serous membrane consisting o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perficial mesothelium covering a layer of areolar tiss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rosa, or visceral peritoneum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vers organs within peritoneal cavit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arietal peritoneum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ines inner surfaces of body wal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Rescue 1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24_02Figureb-L"/>
          <p:cNvPicPr/>
          <p:nvPr/>
        </p:nvPicPr>
        <p:blipFill>
          <a:blip r:embed="rId1"/>
          <a:srcRect l="0" t="0" r="0" b="2373"/>
          <a:stretch/>
        </p:blipFill>
        <p:spPr>
          <a:xfrm>
            <a:off x="773280" y="474840"/>
            <a:ext cx="7751520" cy="57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istological Structure of the Digestive (GI) Trac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2" name="Picture 4" descr="24_03Figure_0-L"/>
          <p:cNvPicPr/>
          <p:nvPr/>
        </p:nvPicPr>
        <p:blipFill>
          <a:blip r:embed="rId1"/>
          <a:srcRect l="0" t="0" r="0" b="3255"/>
          <a:stretch/>
        </p:blipFill>
        <p:spPr>
          <a:xfrm>
            <a:off x="1440" y="1579680"/>
            <a:ext cx="914256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vement of Digestive Materi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y muscular layers of digestive tra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sist of visceral smooth muscl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ong digestive tract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as rhythmic cycles of activities (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ERISTALSI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nsists of waves of muscular contrac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ove a bolus along the length of the tr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ntrolled by pacesetter cell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urrounding the lumen of the trac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ells undergo spontaneous depolariz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riggering wave of contraction through entire muscular she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stal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4" descr="24_04Figure_1-L"/>
          <p:cNvPicPr/>
          <p:nvPr/>
        </p:nvPicPr>
        <p:blipFill>
          <a:blip r:embed="rId1"/>
          <a:srcRect l="0" t="0" r="0" b="6000"/>
          <a:stretch/>
        </p:blipFill>
        <p:spPr>
          <a:xfrm>
            <a:off x="149400" y="1417680"/>
            <a:ext cx="4727520" cy="199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24_04Figure_2-L"/>
          <p:cNvPicPr/>
          <p:nvPr/>
        </p:nvPicPr>
        <p:blipFill>
          <a:blip r:embed="rId2"/>
          <a:srcRect l="0" t="0" r="0" b="4660"/>
          <a:stretch/>
        </p:blipFill>
        <p:spPr>
          <a:xfrm>
            <a:off x="149400" y="3535200"/>
            <a:ext cx="4727520" cy="207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24_04Figure_4-L"/>
          <p:cNvPicPr/>
          <p:nvPr/>
        </p:nvPicPr>
        <p:blipFill>
          <a:blip r:embed="rId3"/>
          <a:srcRect l="0" t="0" r="0" b="5789"/>
          <a:stretch/>
        </p:blipFill>
        <p:spPr>
          <a:xfrm>
            <a:off x="4265640" y="3556080"/>
            <a:ext cx="4878360" cy="2065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24_04Figure_3-L"/>
          <p:cNvPicPr/>
          <p:nvPr/>
        </p:nvPicPr>
        <p:blipFill>
          <a:blip r:embed="rId4"/>
          <a:srcRect l="0" t="0" r="0" b="5789"/>
          <a:stretch/>
        </p:blipFill>
        <p:spPr>
          <a:xfrm>
            <a:off x="4264200" y="1417680"/>
            <a:ext cx="487836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01:17:02Z</dcterms:created>
  <dc:creator>Keith Keller</dc:creator>
  <dc:description/>
  <dc:language>en-US</dc:language>
  <cp:lastModifiedBy>jimenahdez</cp:lastModifiedBy>
  <dcterms:modified xsi:type="dcterms:W3CDTF">2016-03-29T15:17:07Z</dcterms:modified>
  <cp:revision>8</cp:revision>
  <dc:subject/>
  <dc:title>Digestive System</dc:title>
</cp:coreProperties>
</file>